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D908-89AA-4160-8250-079A52B3F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C5C5-F08D-4CCE-ACDB-39377F0AF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405A-D7FC-4158-815D-2665355B1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41B4-0597-4C07-8F7F-6D275F4CB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67FC-5575-4F5B-8753-720BB842A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7880-7EAA-41FE-BB9C-0C160D45F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05C6-3A9C-4A74-A31C-30A650753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324E-552A-4701-A415-A664ABC73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5F01-6ACF-491B-801C-AE10040B9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549D-503B-4E89-B91D-D5AEBF370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243F-20D5-4C5B-8963-E477DE682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764C-15C4-4B88-8F4B-EB35EEA90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D1BA-A5AC-41D6-9F66-9CC6A4513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2A9A-FACD-456D-9642-83EDEA200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3258-B577-4FCF-ACB7-98EC39669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3623-9146-44E9-B42E-144BB4B1A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A2EC-8899-4DCE-B0F5-39065CFC5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035A-2C34-4592-A045-C761A5FE4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69343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4039560"/>
            <a:ext cx="69343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31C8-2F65-4414-9EF0-F1BEBC76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403956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6200" y="403956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EE78-6904-4295-AF21-654D74DD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7680" y="175248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32360" y="175248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403956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87680" y="403956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32360" y="403956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B73E-B276-4B2E-8DFA-762ED69F1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C727-8DEC-4CD0-9DD5-EC074E68E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752480"/>
            <a:ext cx="693432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E92D-CA08-4FFD-81EA-856873A9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69343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ADF0-BC62-4636-ABF8-EF83E7FD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EC8F-702D-46CD-ABAD-BB76F8F5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6FDF-B9F6-461D-8DAF-2ABF6467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3000" y="533520"/>
            <a:ext cx="69343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2573-0A52-42D1-9B9C-8484FE3C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403956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28AF-EEAE-421C-B190-5C793D4B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752480"/>
            <a:ext cx="693432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F99A-EE1E-4A3B-9AEA-CAB4F949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6200" y="403956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DE13-208D-497B-A287-F22A0CAA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39560"/>
            <a:ext cx="69343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4A66-A55D-403C-B237-AC0935ED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69343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4039560"/>
            <a:ext cx="69343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F874-A541-4A3D-95B0-4922CC2B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403956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6200" y="403956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61FB-BB11-4983-A050-98C50986D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87680" y="175248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32360" y="175248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403956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87680" y="403956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32360" y="403956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0481-B8C8-49F0-B80A-FC95771A8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69343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F54B-03C2-4960-84D0-10B15869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2D4D-1B85-45AC-A2AE-09C237C9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47CE-3FB8-477D-92FD-A3A0D89B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533520"/>
            <a:ext cx="69343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43D3-4CED-48C2-864D-7CB260F5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403956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B195-CE7D-40FF-B7CD-62BDE60A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6200" y="403956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8A6B-8146-4E3A-B7DC-5AB4595A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4039560"/>
            <a:ext cx="69343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A0B3-A6D2-4453-A063-C0D0F33F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752480"/>
            <a:ext cx="69343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53364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90920" y="6531120"/>
            <a:ext cx="4038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2.01 Demonstrate desktop publish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6531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E4F3-B39F-480C-AA92-A7087D36FB07}" type="slidenum"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3000" y="1752480"/>
            <a:ext cx="69343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04920" y="653364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590920" y="6531120"/>
            <a:ext cx="4038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2.01 Demonstrate desktop publish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781320" y="6531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AB71-7CEE-4BF8-8A0B-9D42B1CD79DE}" type="slidenum"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3733560"/>
            <a:ext cx="71629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TP Design Features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920" y="54864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03 Demonstrate desktop publishing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ull Quote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980720"/>
            <a:ext cx="30477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otation taken directly from the body of the article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d to draw attention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ten made larger than body text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257440" y="1676160"/>
            <a:ext cx="34290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lacement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ween columns with word wrap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one in a column surrounded by white space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ght justified in the last column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neath the headline as a deck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4" name="Picture 6" descr="pull-quote"/>
          <p:cNvPicPr/>
          <p:nvPr/>
        </p:nvPicPr>
        <p:blipFill>
          <a:blip r:embed="rId1"/>
          <a:stretch/>
        </p:blipFill>
        <p:spPr>
          <a:xfrm>
            <a:off x="3581280" y="2057400"/>
            <a:ext cx="1905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ules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43000" y="1752120"/>
            <a:ext cx="6934320" cy="4226040"/>
          </a:xfrm>
          <a:prstGeom prst="rect">
            <a:avLst/>
          </a:prstGeom>
          <a:noFill/>
          <a:ln w="9360">
            <a:solidFill>
              <a:srgbClr val="309fb5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rizontal or vertical lines that can be applied to paragraphs, text boxes, and objects in a publication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idebar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038480" y="1599840"/>
            <a:ext cx="4648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quare box filled with information related to the main story or to a completely separate article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01932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xt Box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ainer for text that can be placed and formatted independently of other text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ve borders that display when selected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y have sizing handles that appear around the border to resize the box if needed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have a rotation handle that can be used to rotate the box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5105520" y="4648320"/>
            <a:ext cx="211428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atermark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143000" y="1752480"/>
            <a:ext cx="693432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emitransparent image in the background of printed materia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35" name="Picture 6" descr="pull-quote"/>
          <p:cNvPicPr/>
          <p:nvPr/>
        </p:nvPicPr>
        <p:blipFill>
          <a:blip r:embed="rId1"/>
          <a:stretch/>
        </p:blipFill>
        <p:spPr>
          <a:xfrm>
            <a:off x="5791320" y="2209680"/>
            <a:ext cx="190476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693396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ndmark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143000" y="1752480"/>
            <a:ext cx="693432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ymbol that indicates the end of an article or news item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s vary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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solidFill>
            <a:srgbClr val="309fb5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f2f6"/>
                </a:solidFill>
                <a:latin typeface="Arial"/>
                <a:ea typeface="Arial"/>
              </a:rPr>
              <a:t>Reverse Text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43000" y="1752480"/>
            <a:ext cx="693432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xt that is the opposite to what the reader is accustomed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ght text on a dark background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ten used in headlines to draw attention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sparingly!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ecial Features of Publications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42640" y="2057040"/>
            <a:ext cx="350532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t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lloon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leed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ption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opped Cap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unning Headlines/Footer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6120" y="2057040"/>
            <a:ext cx="339084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umpline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ull Quote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debar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xt Box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termark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d mark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erse text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Flowers.bmp"/>
          <p:cNvPicPr/>
          <p:nvPr/>
        </p:nvPicPr>
        <p:blipFill>
          <a:blip r:embed="rId1"/>
          <a:stretch/>
        </p:blipFill>
        <p:spPr>
          <a:xfrm>
            <a:off x="1143000" y="1676520"/>
            <a:ext cx="6477120" cy="45115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rt 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42640" y="1752120"/>
            <a:ext cx="6248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llustrations and photographs used to convey meaning and add appea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69339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alloon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90720" y="1523880"/>
            <a:ext cx="624816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circle or bubble enclosing copy in an illustration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ten used in cartoon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1" name="Cloud Callout 6"/>
          <p:cNvSpPr/>
          <p:nvPr/>
        </p:nvSpPr>
        <p:spPr>
          <a:xfrm>
            <a:off x="3124080" y="3276720"/>
            <a:ext cx="1447920" cy="1143000"/>
          </a:xfrm>
          <a:prstGeom prst="cloudCallout">
            <a:avLst>
              <a:gd name="adj1" fmla="val -131689"/>
              <a:gd name="adj2" fmla="val 100277"/>
            </a:avLst>
          </a:prstGeom>
          <a:solidFill>
            <a:srgbClr val="9ed9e5"/>
          </a:solidFill>
          <a:ln w="25560">
            <a:solidFill>
              <a:srgbClr val="95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??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6" descr="C:\Documents and Settings\bcrockett\Local Settings\Temporary Internet Files\Content.IE5\WNEFPRVZ\MPj04385910000[1].jpg"/>
          <p:cNvPicPr/>
          <p:nvPr/>
        </p:nvPicPr>
        <p:blipFill>
          <a:blip r:embed="rId1"/>
          <a:stretch/>
        </p:blipFill>
        <p:spPr>
          <a:xfrm>
            <a:off x="1143000" y="4114800"/>
            <a:ext cx="1563840" cy="2082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SPBU17-Brat%20Captions"/>
          <p:cNvPicPr/>
          <p:nvPr/>
        </p:nvPicPr>
        <p:blipFill>
          <a:blip r:embed="rId2"/>
          <a:stretch/>
        </p:blipFill>
        <p:spPr>
          <a:xfrm>
            <a:off x="5943600" y="2286000"/>
            <a:ext cx="2173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leed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3619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print effect in which a color, object or image appears to run off the edge of a page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6" name="Picture 7" descr="C:\Documents and Settings\bcrockett\Local Settings\Temporary Internet Files\Content.IE5\C0GXJ95S\MCDD01801_0000[1].wmf"/>
          <p:cNvPicPr/>
          <p:nvPr/>
        </p:nvPicPr>
        <p:blipFill>
          <a:blip r:embed="rId1"/>
          <a:stretch/>
        </p:blipFill>
        <p:spPr>
          <a:xfrm>
            <a:off x="5105520" y="0"/>
            <a:ext cx="459576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693396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aption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295280" y="1752480"/>
            <a:ext cx="655344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ief descriptive text accompanying an image or chart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in the form of a textbox or balloon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832280" y="3657600"/>
            <a:ext cx="2406600" cy="2438280"/>
          </a:xfrm>
          <a:prstGeom prst="rect">
            <a:avLst/>
          </a:prstGeom>
          <a:ln w="0">
            <a:noFill/>
          </a:ln>
        </p:spPr>
      </p:pic>
      <p:sp>
        <p:nvSpPr>
          <p:cNvPr id="110" name="Line 10"/>
          <p:cNvSpPr/>
          <p:nvPr/>
        </p:nvSpPr>
        <p:spPr>
          <a:xfrm>
            <a:off x="4267080" y="5791320"/>
            <a:ext cx="1143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ropped Cap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 enlarged character at the beginning of a paragraph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ops below the line of text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bs the reader’s attention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3" name="Picture 3" descr="Fig05-08"/>
          <p:cNvPicPr/>
          <p:nvPr/>
        </p:nvPicPr>
        <p:blipFill>
          <a:blip r:embed="rId1">
            <a:lum contrast="6000"/>
          </a:blip>
          <a:srcRect l="0" t="8405" r="32405" b="9149"/>
          <a:stretch/>
        </p:blipFill>
        <p:spPr>
          <a:xfrm>
            <a:off x="5181480" y="3657600"/>
            <a:ext cx="3200400" cy="2400480"/>
          </a:xfrm>
          <a:prstGeom prst="rect">
            <a:avLst/>
          </a:prstGeom>
          <a:ln w="9360">
            <a:solidFill>
              <a:srgbClr val="5ec0d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unning Headlines/Footers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1629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unning text at the top and/or bottom of a document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so called headers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d for organization, page numbers, date, author, running title, etc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6" name="Picture 6" descr="C:\Documents and Settings\bcrockett\Local Settings\Temporary Internet Files\Content.IE5\LW7TD4EU\MPj03090300000[1].jpg"/>
          <p:cNvPicPr/>
          <p:nvPr/>
        </p:nvPicPr>
        <p:blipFill>
          <a:blip r:embed="rId1"/>
          <a:stretch/>
        </p:blipFill>
        <p:spPr>
          <a:xfrm>
            <a:off x="5257800" y="4135320"/>
            <a:ext cx="304812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Jumpline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ne which tells readers which page to refer to for the continuation of an article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5029200" y="1066680"/>
            <a:ext cx="2724120" cy="43722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8"/>
          <p:cNvSpPr/>
          <p:nvPr/>
        </p:nvSpPr>
        <p:spPr>
          <a:xfrm>
            <a:off x="5029200" y="5410080"/>
            <a:ext cx="2666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tinued on B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4:16:13Z</dcterms:created>
  <dc:creator>Bladen Crockett</dc:creator>
  <dc:description/>
  <dc:language>en-US</dc:language>
  <cp:lastModifiedBy>ycsadmin</cp:lastModifiedBy>
  <dcterms:modified xsi:type="dcterms:W3CDTF">2011-06-22T21:06:33Z</dcterms:modified>
  <cp:revision>47</cp:revision>
  <dc:subject/>
  <dc:title>Slide 1</dc:title>
</cp:coreProperties>
</file>